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2E5-C72A-4A83-AE8F-734F05D6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334-A8E5-4094-A538-6F1203B7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A99-6A0D-409F-9F33-F27FDBE3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4FB-126C-46D4-80E6-D8C3BB9B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4558-432D-4171-8C88-7BE32283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501-ADA8-4028-BBCE-12AFBED7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77F-F923-40B1-9CC3-9A1B9DC5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9C0D-BD91-4B32-9BF9-4B914AEC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63E5-36AA-4152-B902-9B9546CD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361A-F308-483D-A9CC-844B0226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AB9-6826-4CE0-8B03-C8436EB3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14E3-1FCF-45E0-BB1A-90CBB6B88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A69-E664-41A4-A90B-361665C9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439-62C1-4F43-995A-DD0ECBBD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46C1-C642-4088-9F0E-F5DF311B0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ED6-2A30-486A-8E4B-8961A1CE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634-FD65-4D66-9750-482681B6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: http://www.uncp.edu/academics/colleges-schools-departments/departments/biology/careers-biology/biology-sub-disc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BB3D-AAD0-4D69-A947-1102F0F1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AA9-1E8C-4B28-A3EA-51B810FA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73B-5F61-41A7-9497-B0639B20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8F9-77C8-48D1-839A-9EA893D5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FBD2-B2B3-4F4D-B1A3-FD8CBA5F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4BA-94AA-4B68-839B-2F8B553E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CC4-0FF0-4E70-9EF9-776A484B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645-4EE4-4C33-AD5D-E759BEAD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47E-786E-429C-B7BA-3E327EC7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B1D-6CC1-4610-AC23-D6771E6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781-5235-4A1B-9802-29682708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956-D3A2-45B5-9331-2989E0EC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4A6-8F9C-4E11-9BAB-785A67E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592-7BCF-4A12-9564-81DA1F42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AB5-2FD7-4934-BC37-AFED8D05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7E0-9789-4B50-93C9-891B6EB1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782-1FEC-47F4-BF56-41CD771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2FD-C90A-4E3C-BAF9-E250121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4CE-D21F-4E1F-A82E-6CE79E9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F6B-2F6C-4EA1-813D-D6706A5D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uizlet.com/6402624/biology-disciplines-flash-card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ncp.edu/academics/colleges-schools-departments/departments/biology/careers-biology/biology-sub-discipline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 Balderd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mes of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genic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ncer/tum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genic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s o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th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n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s on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 movements &amp;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b movements &amp;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land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a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cturn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und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im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tuff or something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ovement of lig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s which function like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-caus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cells decomposing qui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-caus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cells decomposing qui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let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 using flashcards for review, this is a great website for creating or finding the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quizlet.com/6402624/biology-disciplines-flash-car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 Discip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more comprehensi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Biology disciplines from the University of North Carolina Pembr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im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lication of biological methods to the study and design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al stuff or something</a:t>
            </a: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ovement of lig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robotic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mechanics which function like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inne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ing/feeling 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inne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ing/feeling 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vement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end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, mood, and adrenalin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and gender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lands and hormones of the   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, mood, and adrenalin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ases an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4:21:30Z</dcterms:created>
  <dc:creator>rubina khan</dc:creator>
  <dc:description/>
  <dc:language>en-US</dc:language>
  <cp:lastModifiedBy>rubina khan</cp:lastModifiedBy>
  <dcterms:modified xsi:type="dcterms:W3CDTF">2016-02-08T18:36:46Z</dcterms:modified>
  <cp:revision>342</cp:revision>
  <dc:subject/>
  <dc:title>Biology Disciplines</dc:title>
</cp:coreProperties>
</file>